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143-AD50-4FCC-9F42-ACBF83E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CCA-398D-4FFB-A830-BD8A7543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56B-BC16-4767-BA14-B52BE4A5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4BF-33AA-4BEA-B114-4A9844FF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5FC-CB3C-4FC2-B3FB-6C2191F9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510-205A-4126-A8DC-4A75AB08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8820-4940-46A0-BACA-6EDA06B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3A5-E4BE-46A2-B63C-298F67B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192-1441-4BFB-AEB2-C7684997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C90B-37FF-4CB6-9600-18B2F2E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9CB-05D4-48AE-A765-CCE9898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4C4-9FFB-4FE5-A4C2-5FE40E52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27EC-78BB-4C90-A91B-1B62E01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888-5795-4E1F-AE7F-6D95D63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F8EC-8A37-49B8-B3A1-D7FC9CF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FBB1-888F-423B-A792-5CF936F4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A67-3F5E-4E02-98D0-70B256ED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FCE6-160B-43EA-975F-EF783EE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B7EF-AA54-4324-94AF-0F8EBCF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B29A-914A-4D18-8893-09C78EB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EF0F-AF1E-4C87-98A4-597EE3F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F773-BB30-4A87-930A-5B443B6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945-6AE4-4FCE-8904-8854A92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AEBC-F69C-4604-977E-57C45D3B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39ED-32AC-4D76-948D-16F497E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1719-C2F2-4D36-9973-C92ADB6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A024-28E1-4ECF-ABC0-D6A31A7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D88A-ABF4-4EB0-9390-7E3ACCF0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7091-C236-494F-93CE-DD4D77E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8750-56D4-459B-9CDA-77A8AB7E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A123-99AA-48FE-B633-17BF5162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5E2A-CF8E-47DF-9E5D-6D698F9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1610-2184-4D6D-911D-09FA015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13C-0313-4EE7-A9C5-DF53AC3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F875-B0B0-439A-BF67-21D01B14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C152-36EF-449F-AC86-005B572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D19B-2DE5-494C-BEDC-621D2449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F901-D98E-41ED-8DFB-0143382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F75E-F581-4319-A5B9-6230579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4C5B-0E3B-410A-8A48-B9E765D1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B680-B225-49B8-A927-EDA5800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396C-C27A-4A8F-ABA2-69EDA6BE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A8B3-3A20-4FEA-9007-306FC36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85DB-9501-43CF-A7C9-B0C4E178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5E6-73F4-44C5-B92F-0694817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F6D0-3F5E-4AD7-83CC-322EF0E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55F0-869B-41B2-8AF0-2BD7D74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EFB9-F13A-4361-AC18-741026D5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23E7-54C6-42B4-92EE-CAA5D21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9470B-980E-464D-8544-541034CC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5C3B-507E-4F20-B534-E12B458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99B1-55F8-4E49-ACB1-CC5E2D5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AF1E-C263-4238-9443-D64C06F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C587-A385-49D0-A06F-C0DA1A2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6E19-2D47-443B-AEDF-1C8243F3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630-0746-44D1-8347-B095E368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E9D9-59E4-4BAF-AD1A-FB9B1190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654-5891-484F-A4AD-90D8D9D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C3B-AAFD-46EE-A0FC-BE776D1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31E-C20D-4E41-A7DD-258A9F0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A179-1C78-4AE6-B20D-E5E4CA76DD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CA7-DF4D-4AE6-ACBF-D9C15C7F4A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A6E-77A4-4913-81C9-5D3069C61FA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B1C5-87FE-4D73-B958-3235503FEE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F08-988C-4195-A5CA-200A0E3C6D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609480" y="380880"/>
            <a:ext cx="8153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0b9"/>
                </a:solidFill>
                <a:latin typeface="Tempus Sans ITC"/>
              </a:rPr>
              <a:t>SAVING THE ORANGUT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S910219987[1].wav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MS910220001[1].wav" descr=""/>
          <p:cNvPicPr/>
          <p:nvPr/>
        </p:nvPicPr>
        <p:blipFill>
          <a:blip r:embed="rId2"/>
          <a:stretch/>
        </p:blipFill>
        <p:spPr>
          <a:xfrm>
            <a:off x="-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http://t0.gstatic.com/images?q=tbn:ANd9GcTTzggKibEw81auHZO6FWhs_7pXUva5C3_bMTfAwHiDqqeXiYM6dw"/>
          <p:cNvPicPr/>
          <p:nvPr/>
        </p:nvPicPr>
        <p:blipFill>
          <a:blip r:embed="rId3"/>
          <a:stretch/>
        </p:blipFill>
        <p:spPr>
          <a:xfrm>
            <a:off x="1676520" y="1600200"/>
            <a:ext cx="6095880" cy="456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99"/>
                </a:solidFill>
                <a:latin typeface="Tempus Sans ITC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empus Sans ITC"/>
              </a:rPr>
              <a:t>Brief Information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47920" y="1143000"/>
          <a:ext cx="6095880" cy="5489640"/>
        </p:xfrm>
        <a:graphic>
          <a:graphicData uri="http://schemas.openxmlformats.org/drawingml/2006/table">
            <a:tbl>
              <a:tblPr/>
              <a:tblGrid>
                <a:gridCol w="2676240"/>
                <a:gridCol w="341964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Know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Don’t Kn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armers burn down/log down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y does Indonesia Government refuse help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Orangutans get harmed in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at Solutions have been already implemen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ood Web Destroyed and Habitat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o are the parties involv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Main 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verty and Unemploy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wood (Logg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Palm 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Metals such as G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nd Management and Secur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w Enforc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empus Sans ITC"/>
              </a:rPr>
              <a:t>Solutions – Logging, Demand For Wood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28600" y="18288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900157631[1]"/>
          <p:cNvPicPr/>
          <p:nvPr/>
        </p:nvPicPr>
        <p:blipFill>
          <a:blip r:embed="rId1"/>
          <a:stretch/>
        </p:blipFill>
        <p:spPr>
          <a:xfrm>
            <a:off x="7010280" y="5181480"/>
            <a:ext cx="1797120" cy="1333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MC900215545[1]"/>
          <p:cNvPicPr/>
          <p:nvPr/>
        </p:nvPicPr>
        <p:blipFill>
          <a:blip r:embed="rId2"/>
          <a:stretch/>
        </p:blipFill>
        <p:spPr>
          <a:xfrm>
            <a:off x="228600" y="51055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Tempus Sans ITC"/>
              </a:rPr>
              <a:t>Solutions-Demand for Palm Oi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10" descr="http://t3.gstatic.com/images?q=tbn:ANd9GcQos2e_tPjmr57FOi_wUjfqYy-Dcg7EfdWJTUhedohqhs2SvtSm5w"/>
          <p:cNvPicPr/>
          <p:nvPr/>
        </p:nvPicPr>
        <p:blipFill>
          <a:blip r:embed="rId1"/>
          <a:stretch/>
        </p:blipFill>
        <p:spPr>
          <a:xfrm>
            <a:off x="298440" y="4492800"/>
            <a:ext cx="25002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Solutions – Law Enforce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MC900234208[1]"/>
          <p:cNvPicPr/>
          <p:nvPr/>
        </p:nvPicPr>
        <p:blipFill>
          <a:blip r:embed="rId2"/>
          <a:stretch/>
        </p:blipFill>
        <p:spPr>
          <a:xfrm>
            <a:off x="7083360" y="1822320"/>
            <a:ext cx="206712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Solutions - Secu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unemployed people to work as “security guards” to help protect the affected are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people who are extremely willing to take the jo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reasonable p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LS DELETE BEFORE PRESENTATION: Pt 2 – so that they won’t slack off Pt 3- so they won’t except bribes.*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4" descr="MC900295619[1]"/>
          <p:cNvPicPr/>
          <p:nvPr/>
        </p:nvPicPr>
        <p:blipFill>
          <a:blip r:embed="rId1"/>
          <a:stretch/>
        </p:blipFill>
        <p:spPr>
          <a:xfrm>
            <a:off x="7620120" y="228600"/>
            <a:ext cx="1523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empus Sans ITC"/>
              </a:rPr>
              <a:t>Save the Orangutans from Extin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9" descr="orangutan"/>
          <p:cNvPicPr/>
          <p:nvPr/>
        </p:nvPicPr>
        <p:blipFill>
          <a:blip r:embed="rId1"/>
          <a:srcRect l="0" t="0" r="16666" b="0"/>
          <a:stretch/>
        </p:blipFill>
        <p:spPr>
          <a:xfrm>
            <a:off x="0" y="288936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6:16:49Z</dcterms:created>
  <dc:creator>Rohith</dc:creator>
  <dc:description/>
  <dc:language>en-US</dc:language>
  <cp:lastModifiedBy>VAIO</cp:lastModifiedBy>
  <dcterms:modified xsi:type="dcterms:W3CDTF">2011-09-13T07:49:26Z</dcterms:modified>
  <cp:revision>9</cp:revision>
  <dc:subject/>
  <dc:title>Slide 1</dc:title>
</cp:coreProperties>
</file>